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FA0F7-8786-4D27-83ED-BFB28D8DC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690E5-5435-44BE-BDEA-583937357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1A18C-D02C-4F85-930F-EC99CF6EE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FD2F5-2C8D-4F22-BB72-789F69DC9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4C229-8AE5-497B-9BB8-1F0F9ABFE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CA7A3-12A0-4C75-80E5-4623FE140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9BCED-1989-41C1-BC1A-7A059F9FB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9ADB8-04EE-4B78-B6CF-C0BC7D04B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264B0-CB2D-4F60-8112-24A24A837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26697-E82F-455C-B903-E0681F82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01E47-3CFA-4247-AEC4-58E1E01EF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DF16A-CF8C-4109-A3F2-88DF2AAF7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71801-8E4A-4395-A3F9-258302909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D1E-7A58-4DFA-8861-85928CA7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B62-1DDF-4E18-8CFE-A2CF9DA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3A7-BD8A-4C0B-9718-C6C9B6D5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A74-58E2-4522-9281-DC2245BA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769-71B7-4814-95B9-855D2FD2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095-A6F7-4EB5-A0F3-41F12AE0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407-4FA3-405C-A3F2-3E462ADD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A2C-F8B0-4F00-9682-36B2B793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F10-E3D0-4E89-A974-107AA1F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7C0-A528-44CE-B3EB-5659B3B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87A-020F-4B61-86E0-080C504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B66-CB49-474E-B99D-9AC0C9B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40CBA-8671-409B-9E8B-C2003B756B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180800"/>
            <a:ext cx="9070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 Compromise Laws Review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Westward Expansion raise the debate over slavery in the U.S.?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8001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.  Most of the Supreme Court Justices who decided the Dred Scott case were slave-owners themsel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.  The Dred Scott decision effectively took away political rights from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mericans of African descent, including blacks living freely in the Nort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 “Abolitionist” is another word for someone who believed slavery should be allowed in the United States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ists believed that slavery was wrong and needed to be eliminate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 Maine became a state in 1820 as a “trade-off” with Missouri (where slavery was allowed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503280" y="304920"/>
            <a:ext cx="90709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ior to 1820, a balance was maintained in the House of Representatives on slavery, as there were 11 free states and 11 slave states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in the Senate where the balance was important, since each state is equally represented t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The Missouri Compromise attempted to create a permanent solution to the question of slavery and national expansion by drawing a line at the 36°30” line of latitude, north of which would be “free” and south of which would be “slave.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  California became a “free” state with the Compromise of 185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01560" y="86040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gitive Slave Law said that any slave that escaped from the South would be free if they could reach the free Northern sta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aw required all citizens, including those in the North, to assist with the capture of runaway sla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ncept of popular sovereignty was that the issue of whether or not slavery would be allowed in new states would be decided with one big nation-wide vo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lse.  Under popular sovereignty, each state or territory would determine its laws on slavery through a popular vote in that state or terri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olence was used only by pro-slavery forces in Kansas, who were trying to influence an important territory-wide vote on the issue of slave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litionists, such as John Brown, used brutal violence to try to influence the vote as well.  The territory became known as “Bleeding Kansas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5:37:07Z</dcterms:created>
  <dc:creator/>
  <dc:description/>
  <dc:language>en-US</dc:language>
  <cp:lastModifiedBy>Dominic Lambek</cp:lastModifiedBy>
  <dcterms:modified xsi:type="dcterms:W3CDTF">2014-05-29T14:05:27Z</dcterms:modified>
  <cp:revision>1</cp:revision>
  <dc:subject/>
  <dc:title>Slavery Compromise Laws Review  Focus question:   How did Westward Expansion raise the debate over slavery in the U.S.?   </dc:title>
</cp:coreProperties>
</file>